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laser.wav" ContentType="audio/x-wav"/>
  <Override PartName="/ppt/media/image4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1.gif" ContentType="image/gif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0A7-D7BB-4CCB-A2E7-CBB53A00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CF9-3D64-4453-A63A-D08F12A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215A2-6C34-4770-8211-B7553C7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7BA72-EB48-459A-85DA-2DDEDC0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E2E54-7E3E-412B-ACEA-FD0AFC7C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9025C-1FEB-413C-910E-11D65C1D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C8C6-243E-4E18-9833-DE1C6E9A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ED770-B807-46C0-8520-811D328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3D431-70F4-40A0-9D0C-EDDD3043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8B176-BA11-4CD2-84EA-6BB55F78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D1F4F-DAD8-4595-AF76-21266E7D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D5F85-A423-4A9B-A199-30DCB03A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652-78B6-4039-9288-AECC37D9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7DFD5-6D8A-4153-B998-6B783357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5E891-ED47-48F6-A189-CF5CD4A2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7E449-DFA0-430A-9CC5-D64EC7D8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C4347-0514-476C-AE0C-5FE5F827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25ED4-E283-4AF9-B885-8366BFB0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4A49B-9AF7-4646-9B67-5B2903F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E5B5E-939A-49B9-B107-3690755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909F3-FAB8-4182-B243-F2711E4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451B8-70EA-417B-9727-418E77EA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79041-8880-448C-B0CB-BCBA900E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B11-8F3A-4F0A-9A9C-D9050F11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128C3-8773-448E-8F7F-C639D16F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670FA-9776-4FA4-8875-B85C849B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E9314-C889-4A39-A589-FBF2BAC8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3A3AC-23D9-4D9A-9CE8-642A1EC0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56984-FA05-47A2-AA50-967BD6D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F927E-526B-4B25-8504-B68C014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82E2D-C126-46A4-9A7B-5F99DF8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1F0C5-1B41-4227-970D-142071AC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7FDE1-17F9-4165-ADD7-41A0430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FC37-A730-4F21-BC18-6CB32F5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EC5F-9DD2-462D-A0E7-316A5BEF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B9391-4D94-48B4-9283-CF33498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2B304-C43C-4270-BE12-BD2D8B30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BBD8-C8B1-4D3F-A375-292B53CF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FD2E0-446C-4459-BC87-C2D28B3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383F4-4A2D-4267-A39A-D40BF301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217EE-B3AF-47F5-8BC7-37779AAD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D2E54-4461-4EE1-AE4A-DA5FE54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B7745-951F-4C99-9F28-83805194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66CDC-DB5D-4ACA-BC8C-58F0958A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D1F09-F9EB-4FF9-BA7B-3ACC718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8E3E-8FA1-43B8-A330-A5511080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0FECE-491B-4F67-BAFD-51504BE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88E78-CFE5-4138-BA90-ACB0BE38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5D11A-E21D-4D89-BE7A-CC727DD3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C5A87-5771-4CD8-B917-F1426CF3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2703F-03B5-4BD8-ABA6-ED60F581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87D-FEBD-4E0F-9C20-4E8071BB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AA4C-8978-4B4E-8D7B-64C8712D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402D-3E8F-4C18-AB32-149059A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E5B0-6672-4B13-B771-3558D23A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96F-E732-467B-B270-275D07E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1AD-ABAB-4FCB-A497-DEEFFCD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FAA-2806-4824-BB5E-A42B065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8DA0-143B-4169-9E04-EAA2680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830-4C14-4A65-8642-BC8C2BCF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9CD5-FE4D-4446-A6C3-8240FFF1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F72-5140-483B-8C9F-8B59D379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5334-B181-4305-BA12-046A0DD5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A49F-7BB9-4E8F-B0D8-764E125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01A8-ABB3-4692-ACAD-556C8932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6C9F-3F6C-4A19-8854-21585DD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5B89-0955-47BD-AACB-4979C7B3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E06-A7EF-4AF1-9198-9EB45A8E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9022-4E79-454E-8FA4-0E59059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2D65-D64B-4F7E-A1AF-9F55C46D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7430-472B-4E25-9DD9-A6140C5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34AD-D9F8-4B92-AD23-B7A6C2E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D22F-9B2E-498F-AED4-61C4B84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0B02-959E-4A3E-BF14-FF1E6D36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892B-FD65-43E1-80B3-00F4F32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1FA3-79DF-48C7-AAA1-AF1ACE33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5A96-6D2D-4D58-AD63-FDD89A6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6F21-62A4-43C4-8561-279D0C2C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A80-7CE5-4E2C-9083-FC168FB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1CE3-6902-4877-BE19-EF04129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F136-9B77-4646-8823-67DC95FB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792E-7D06-45C4-B50E-A5F8072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D645-08B8-493F-940C-D151B7A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EBC8-0CFF-4B28-8BED-3D5A726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6842-D13C-43A2-B822-0995EEC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C98E-082E-42B0-A740-2C269F57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25B9-258F-46F5-9A70-6F9D4B89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8171-DF14-4ADF-9715-B2BC9B8F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E322A-94E1-483D-8691-282E383E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08B-2E02-46EE-9890-10BBB75C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D77D4-0A05-44F2-B622-96840A1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03137-6454-4856-B66B-E1AC89E9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E5A3-27ED-4DDE-8071-C3EEE1EA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7598-AE62-41B6-B33E-73ACCBE4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016F-356A-4EC5-A323-1180B39D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DFD8-9AAD-4B0C-A883-B56E44E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C2C8-C1EB-43E4-8C7A-5DB7A2D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BB40D-FA14-4D70-A278-B4AFB9B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E757-405D-4E9B-BE0E-64EC4389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066F1-FE62-4F8B-A112-56784F0A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81E-E741-4A5E-A752-DD742F32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57A57-879B-4AD0-8F17-EC38FCA6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BB64-437E-4529-A001-86A18801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C858-0ECD-4D45-9259-1CABDAA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D88C-68FF-4A29-9DF6-3BE57A8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1D48E-2D8A-41FF-A832-2FD2ADE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D201-D4AD-499E-854A-E0822E8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F8820-11B1-42C2-B5C2-CC965EA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955FE-3ABC-4355-BAC0-DF710C34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5DB89-802B-47EB-8D6D-C0413DA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8D294-782A-4AF6-9760-00D7B51C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586-763B-4732-965D-7F7C7E9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F3FD3-64B8-4DEE-AEC8-1E8A8FC3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B1E3-7669-4489-95B0-24B894D5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7B8FA-C620-42B1-AF67-B7B96B07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AF66-E36D-4E4D-BC0C-99C1108C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B5839-221E-4451-AAC4-3EA6DAE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1202-A0B2-4733-BDDD-064F2CA2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0A72-630E-463E-A86F-7BE70400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60F58-41D3-48CE-9079-F4E6FB7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D8BF-E331-4275-8EEF-10DE707E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C994-ACF0-4D2E-BB5E-2CEC081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9E2-6B3D-4C76-87EF-2502A43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9797-2D3E-40D6-97B4-81364B15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1DFE-96DA-47F0-B124-381F510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40C89-737F-469C-8296-5B7106BA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4F629-9F2D-44DB-BA83-D850E749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A43D-7EE9-4707-B6C9-233C5239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5F30A-52CC-4B96-9E1C-498DB5B5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FB91-6A14-44FA-81E8-D772D028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67A8-825F-4936-A358-30B7394F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40DD-7BA8-479A-976F-F1C3AB2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9D0B-02AD-4035-8B27-0A7C7E2B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0BD-53D0-4D18-BBD3-62EFFD7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4FAA7-4271-4BF7-BF7A-EB6DA413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A2D6-BCD3-4C7C-BFEB-C514DB98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3819-7CAA-4950-93F0-01D8C21E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8F8C-6A0E-44E4-8670-C863235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C7155-8155-4377-9B48-6D5E6E4B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60337-7C4D-429D-91D3-2737316B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8EE9-ED44-4385-8E4F-CA65F576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17C2A-A1C1-47DF-8717-4968070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BDEA8-434F-4E2F-801F-422D9FF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A5A06-6B2D-453D-83B9-3C23A598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8456-48C4-4A09-A967-B2466DCCB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528F-A39E-452C-95D6-E8B29AC0A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3880-8985-490E-A8F1-D92F5F223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B520-38A4-4AC8-A87F-6CBFD9BDD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823-936C-4C76-8B40-5E93F4BE2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2874-7200-44B2-BF3C-4BE8B0C13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D03-5801-4F2A-8DA5-6411E6C71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F18D-1595-486E-BA37-54CBB48C5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CC33-1F2C-4AFD-9612-7FF26B2DF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76AE-1BE8-435A-BF9A-CAD192C04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090A-8265-4BD3-99E8-2E86886E2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0127-2C15-4DC8-B728-BD7572977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Заголовок 1"/>
          <p:cNvSpPr/>
          <p:nvPr/>
        </p:nvSpPr>
        <p:spPr>
          <a:xfrm>
            <a:off x="6429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Calibri"/>
              </a:rPr>
              <a:t>Ядерные реа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3" descr="ядерные реакции.png"/>
          <p:cNvPicPr/>
          <p:nvPr/>
        </p:nvPicPr>
        <p:blipFill>
          <a:blip r:embed="rId1"/>
          <a:stretch/>
        </p:blipFill>
        <p:spPr>
          <a:xfrm>
            <a:off x="142920" y="285840"/>
            <a:ext cx="3048120" cy="2714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ttp://im3-tub.yandex.net/i?id=13230983&amp;tov=3"/>
          <p:cNvPicPr/>
          <p:nvPr/>
        </p:nvPicPr>
        <p:blipFill>
          <a:blip r:embed="rId2"/>
          <a:stretch/>
        </p:blipFill>
        <p:spPr>
          <a:xfrm>
            <a:off x="6429240" y="357120"/>
            <a:ext cx="2357640" cy="240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Documents and Settings\Шаронина\Рабочий стол\Картинки\ANIMGIF\TECHNOLOGY\MOLECULECOMPLEX-MOTION2-B.GIF"/>
          <p:cNvPicPr/>
          <p:nvPr/>
        </p:nvPicPr>
        <p:blipFill>
          <a:blip r:embed="rId3"/>
          <a:stretch/>
        </p:blipFill>
        <p:spPr>
          <a:xfrm>
            <a:off x="3500280" y="500040"/>
            <a:ext cx="2357640" cy="2214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Планетарная модель атома"/>
          <p:cNvPicPr/>
          <p:nvPr/>
        </p:nvPicPr>
        <p:blipFill>
          <a:blip r:embed="rId4"/>
          <a:stretch/>
        </p:blipFill>
        <p:spPr>
          <a:xfrm>
            <a:off x="214200" y="400068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my_atom0[1]"/>
          <p:cNvPicPr/>
          <p:nvPr/>
        </p:nvPicPr>
        <p:blipFill>
          <a:blip r:embed="rId5"/>
          <a:stretch/>
        </p:blipFill>
        <p:spPr>
          <a:xfrm>
            <a:off x="4714920" y="4000680"/>
            <a:ext cx="369720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оугольник 1"/>
          <p:cNvSpPr/>
          <p:nvPr/>
        </p:nvSpPr>
        <p:spPr>
          <a:xfrm>
            <a:off x="0" y="1644480"/>
            <a:ext cx="91440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определим массу ядер и частиц до реакции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= 14,003242 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 baseline="-12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e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= 4,002603 а.е.м. </a:t>
            </a:r>
            <a:r>
              <a:rPr b="1" lang="ru-RU" sz="2800" spc="-1" strike="noStrike" baseline="32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 baseline="-12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1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05845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определим массу ядер и частиц после реакции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= 16,999134 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 baseline="-12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= 1,007825 а.е.м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 baseline="34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2400" spc="-1" strike="noStrike" baseline="-12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1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006959 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найдём изменение массы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= m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05845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е.м.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006959 а.е.м. = - 0,001114 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рассчитаем изменение энергии (т.е. найдём энергетический выход):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28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931 Мэ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е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28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931 Мэ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е.м. =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0,001114 а.е.м. </a:t>
            </a:r>
            <a:r>
              <a:rPr b="0" lang="ru-RU" sz="28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931 Мэ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е.м. = = - 1,04 Мэ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к «-» говорит о том, что реакция происходит с поглощением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"/>
          <p:cNvSpPr/>
          <p:nvPr/>
        </p:nvSpPr>
        <p:spPr>
          <a:xfrm>
            <a:off x="3509640" y="214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2786040" y="928800"/>
            <a:ext cx="4035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12000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 +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 =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Calibri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+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рямоугольник 1"/>
          <p:cNvSpPr/>
          <p:nvPr/>
        </p:nvSpPr>
        <p:spPr>
          <a:xfrm>
            <a:off x="214200" y="3571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Определить энергетический выход ядерной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2"/>
          <p:cNvSpPr/>
          <p:nvPr/>
        </p:nvSpPr>
        <p:spPr>
          <a:xfrm>
            <a:off x="1357200" y="857160"/>
            <a:ext cx="6572520" cy="224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4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+ 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→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4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 + 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4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= 40,110665 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4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= 43,009245 а.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глощается или выделяется при этом энер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кругленный прямоугольник 3"/>
          <p:cNvSpPr/>
          <p:nvPr/>
        </p:nvSpPr>
        <p:spPr>
          <a:xfrm>
            <a:off x="357120" y="3000240"/>
            <a:ext cx="8286840" cy="404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4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= 40,110665 а.е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12000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 baseline="-12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ru-RU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e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= 4,002603 а.е.м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 baseline="40000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40000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4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113268 а.е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4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= 43,009245 а.е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 baseline="-12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= 1,007825 а.е.м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4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017070 а.е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 = m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 0,96198 а.е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 =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28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931 Мэ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е.м. 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0,96198 а.е.м. </a:t>
            </a:r>
            <a:r>
              <a:rPr b="1" lang="ru-RU" sz="28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931 Мэ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е.м. = 89,56 МэВ, энергия выде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Блок-схема: знак завершения 1"/>
          <p:cNvSpPr/>
          <p:nvPr/>
        </p:nvSpPr>
        <p:spPr>
          <a:xfrm>
            <a:off x="142920" y="142920"/>
            <a:ext cx="8501040" cy="170316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исать ядерную реакцию, происходящую при бомбардировке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Calibri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астицами и сопровождающуюся образованием про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2"/>
          <p:cNvSpPr/>
          <p:nvPr/>
        </p:nvSpPr>
        <p:spPr>
          <a:xfrm>
            <a:off x="214200" y="1857240"/>
            <a:ext cx="84297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…     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4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…  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1" lang="en-US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+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Блок-схема: знак завершения 3"/>
          <p:cNvSpPr/>
          <p:nvPr/>
        </p:nvSpPr>
        <p:spPr>
          <a:xfrm>
            <a:off x="0" y="3071880"/>
            <a:ext cx="9001080" cy="20138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исать ядерную реакцию, происходящую при бомбардировке </a:t>
            </a:r>
            <a:r>
              <a:rPr b="0" lang="ru-RU" sz="2400" spc="-1" strike="noStrike" baseline="-16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астицами и сопровождающуюся выбиванием нейтронов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4"/>
          <p:cNvSpPr/>
          <p:nvPr/>
        </p:nvSpPr>
        <p:spPr>
          <a:xfrm>
            <a:off x="1428840" y="5072040"/>
            <a:ext cx="557208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6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 baseline="50000">
                <a:solidFill>
                  <a:srgbClr val="000000"/>
                </a:solidFill>
                <a:latin typeface="Calibri"/>
              </a:rPr>
              <a:t>1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→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… + </a:t>
            </a:r>
            <a:r>
              <a:rPr b="1" lang="ru-RU" sz="1800" spc="-1" strike="noStrike" baseline="-1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 baseline="4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6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 baseline="50000">
                <a:solidFill>
                  <a:srgbClr val="000000"/>
                </a:solidFill>
                <a:latin typeface="Calibri"/>
              </a:rPr>
              <a:t>1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→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… + </a:t>
            </a:r>
            <a:r>
              <a:rPr b="1" lang="ru-RU" sz="1800" spc="-1" strike="noStrike" baseline="-1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 baseline="4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6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 baseline="50000">
                <a:solidFill>
                  <a:srgbClr val="000000"/>
                </a:solidFill>
                <a:latin typeface="Calibri"/>
              </a:rPr>
              <a:t>1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→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… + </a:t>
            </a:r>
            <a:r>
              <a:rPr b="1" lang="ru-RU" sz="1800" spc="-1" strike="noStrike" baseline="-1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 baseline="4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16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800" spc="-1" strike="noStrike" baseline="50000">
                <a:solidFill>
                  <a:srgbClr val="000000"/>
                </a:solidFill>
                <a:latin typeface="Calibri"/>
              </a:rPr>
              <a:t>1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 → </a:t>
            </a:r>
            <a:r>
              <a:rPr b="0" lang="ru-RU" sz="1800" spc="-1" strike="noStrike" baseline="-12000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ru-RU" sz="1800" spc="-1" strike="noStrike" baseline="-1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1800" spc="-1" strike="noStrike" baseline="42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500"/>
                            </p:stCondLst>
                            <p:childTnLst>
                              <p:par>
                                <p:cTn id="2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0" y="74880"/>
            <a:ext cx="8786880" cy="330228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Calibri"/>
                <a:ea typeface="Times New Roman"/>
              </a:rPr>
              <a:t>Ядерная реак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– это процесс взаимодействия атомного ядра с другим ядром или элементарной частицей, сопровождающийся изменением состава и структуры ядра и выделением вторичных частиц или γ-квант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ядерных реакций могут образовываться новые радиоактивные изотопы, которых нет на Земле в естеств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55" descr="d1"/>
          <p:cNvPicPr/>
          <p:nvPr/>
        </p:nvPicPr>
        <p:blipFill>
          <a:blip r:embed="rId1"/>
          <a:stretch/>
        </p:blipFill>
        <p:spPr>
          <a:xfrm>
            <a:off x="0" y="457200"/>
            <a:ext cx="190440" cy="1429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5"/>
          <p:cNvSpPr/>
          <p:nvPr/>
        </p:nvSpPr>
        <p:spPr>
          <a:xfrm>
            <a:off x="357120" y="3390120"/>
            <a:ext cx="8358120" cy="334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любой ядерной реак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ыполняются законы сохранения электрических зарядов и массовых чисел: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умма зарядов (и массовых чисел) ядер и частиц, вступающих в ядерную реакцию, равна сумме зарядов (и сумме массовых чисел) конечных продуктов (ядер и частиц) реакции. Выполняются такж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законы сохранения энергии, импульса и момента импульса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3"/>
          <p:cNvSpPr/>
          <p:nvPr/>
        </p:nvSpPr>
        <p:spPr>
          <a:xfrm>
            <a:off x="1071720" y="537120"/>
            <a:ext cx="7215120" cy="2256120"/>
          </a:xfrm>
          <a:custGeom>
            <a:avLst/>
            <a:gdLst>
              <a:gd name="textAreaLeft" fmla="*/ 0 w 7215120"/>
              <a:gd name="textAreaRight" fmla="*/ 7215480 w 721512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4" y="0"/>
                </a:lnTo>
                <a:lnTo>
                  <a:pt x="21600" y="10800"/>
                </a:lnTo>
                <a:lnTo>
                  <a:pt x="192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имволически реакции записываются в вид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143080" y="3786120"/>
            <a:ext cx="4786200" cy="10789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 + X → Y 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42920" y="501120"/>
            <a:ext cx="8786880" cy="2382120"/>
          </a:xfrm>
          <a:custGeom>
            <a:avLst/>
            <a:gdLst>
              <a:gd name="textAreaLeft" fmla="*/ 0 w 8786880"/>
              <a:gd name="textAreaRight" fmla="*/ 8787240 w 8786880"/>
              <a:gd name="textAreaTop" fmla="*/ 595440 h 2382120"/>
              <a:gd name="textAreaBottom" fmla="*/ 1786680 h 2382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Ядерные реакции могут быть ка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экзотермическим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(с выделением энергии) так 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эндотермическим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(с поглощением энерг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ятиугольник 6"/>
          <p:cNvSpPr/>
          <p:nvPr/>
        </p:nvSpPr>
        <p:spPr>
          <a:xfrm>
            <a:off x="285840" y="4143240"/>
            <a:ext cx="8643960" cy="1557000"/>
          </a:xfrm>
          <a:custGeom>
            <a:avLst/>
            <a:gdLst>
              <a:gd name="textAreaLeft" fmla="*/ 0 w 8643960"/>
              <a:gd name="textAreaRight" fmla="*/ 8643960 w 8643960"/>
              <a:gd name="textAreaTop" fmla="*/ 0 h 1557000"/>
              <a:gd name="textAreaBottom" fmla="*/ 1557360 h 155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8" y="0"/>
                </a:lnTo>
                <a:lnTo>
                  <a:pt x="21600" y="10800"/>
                </a:lnTo>
                <a:lnTo>
                  <a:pt x="1963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реакция идет с выделением кинетической энергии, 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&gt;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реакция называе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экзотермической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реакция идет с поглощением кинетической энергии, т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&lt;0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реакция называе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эндотермической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214200" y="2578680"/>
            <a:ext cx="8715600" cy="199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нергетическим выход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ядерной реакции и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нергией реакции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Q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ывается разность кинетических энергий конечного и начального состояний частиц, участвующих в ядерной реа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блако 2"/>
          <p:cNvSpPr/>
          <p:nvPr/>
        </p:nvSpPr>
        <p:spPr>
          <a:xfrm>
            <a:off x="3173400" y="1071720"/>
            <a:ext cx="2411280" cy="9162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блако 4"/>
          <p:cNvSpPr/>
          <p:nvPr/>
        </p:nvSpPr>
        <p:spPr>
          <a:xfrm>
            <a:off x="2081520" y="5500800"/>
            <a:ext cx="5388480" cy="88920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l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—т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—т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)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1" descr="Nuclear_reaction_Li6-d.png"/>
          <p:cNvPicPr/>
          <p:nvPr/>
        </p:nvPicPr>
        <p:blipFill>
          <a:blip r:embed="rId1"/>
          <a:stretch/>
        </p:blipFill>
        <p:spPr>
          <a:xfrm>
            <a:off x="3286080" y="2428920"/>
            <a:ext cx="2705040" cy="4052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http://im2-tub.yandex.net/i?id=33990581&amp;tov=2"/>
          <p:cNvPicPr/>
          <p:nvPr/>
        </p:nvPicPr>
        <p:blipFill>
          <a:blip r:embed="rId2"/>
          <a:stretch/>
        </p:blipFill>
        <p:spPr>
          <a:xfrm>
            <a:off x="1000080" y="328608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http://im7-tub.yandex.net/i?id=7035381&amp;tov=7"/>
          <p:cNvPicPr/>
          <p:nvPr/>
        </p:nvPicPr>
        <p:blipFill>
          <a:blip r:embed="rId3"/>
          <a:stretch/>
        </p:blipFill>
        <p:spPr>
          <a:xfrm>
            <a:off x="4119480" y="785880"/>
            <a:ext cx="1551240" cy="1428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http://im3-tub.yandex.net/i?id=11154974&amp;tov=3"/>
          <p:cNvPicPr/>
          <p:nvPr/>
        </p:nvPicPr>
        <p:blipFill>
          <a:blip r:embed="rId4"/>
          <a:stretch/>
        </p:blipFill>
        <p:spPr>
          <a:xfrm>
            <a:off x="714240" y="5072040"/>
            <a:ext cx="2071800" cy="138132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5"/>
          <p:cNvSpPr/>
          <p:nvPr/>
        </p:nvSpPr>
        <p:spPr>
          <a:xfrm>
            <a:off x="1928880" y="28584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Ядерные реакции могут протек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с двумя вырезанными противолежащими углами 6"/>
          <p:cNvSpPr/>
          <p:nvPr/>
        </p:nvSpPr>
        <p:spPr>
          <a:xfrm>
            <a:off x="6072120" y="1143000"/>
            <a:ext cx="2643120" cy="1161720"/>
          </a:xfrm>
          <a:prstGeom prst="pi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лабораторных эксперим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с двумя вырезанными противолежащими углами 7"/>
          <p:cNvSpPr/>
          <p:nvPr/>
        </p:nvSpPr>
        <p:spPr>
          <a:xfrm>
            <a:off x="428760" y="1143000"/>
            <a:ext cx="2928960" cy="186804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естественных условиях (например, в недрах зв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0" descr="http://im8-tub.yandex.net/i?id=36623306&amp;tov=8"/>
          <p:cNvPicPr/>
          <p:nvPr/>
        </p:nvPicPr>
        <p:blipFill>
          <a:blip r:embed="rId5"/>
          <a:stretch/>
        </p:blipFill>
        <p:spPr>
          <a:xfrm>
            <a:off x="6929280" y="4513320"/>
            <a:ext cx="1643400" cy="2344680"/>
          </a:xfrm>
          <a:prstGeom prst="rect">
            <a:avLst/>
          </a:prstGeom>
          <a:ln w="0">
            <a:noFill/>
          </a:ln>
        </p:spPr>
      </p:pic>
      <p:sp>
        <p:nvSpPr>
          <p:cNvPr id="516" name="Стрелка вниз 10"/>
          <p:cNvSpPr/>
          <p:nvPr/>
        </p:nvSpPr>
        <p:spPr>
          <a:xfrm rot="3900000">
            <a:off x="2411280" y="347400"/>
            <a:ext cx="142920" cy="1000080"/>
          </a:xfrm>
          <a:prstGeom prst="down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23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трелка вниз 11"/>
          <p:cNvSpPr/>
          <p:nvPr/>
        </p:nvSpPr>
        <p:spPr>
          <a:xfrm rot="18120000">
            <a:off x="6402960" y="407160"/>
            <a:ext cx="146160" cy="928440"/>
          </a:xfrm>
          <a:prstGeom prst="downArrow">
            <a:avLst>
              <a:gd name="adj1" fmla="val 50000"/>
              <a:gd name="adj2" fmla="val 4993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968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C:\Users\User1\Pictures\радиоактивность картинки\циклотронный зал лабормтории ядерных реакций.jpg"/>
          <p:cNvPicPr/>
          <p:nvPr/>
        </p:nvPicPr>
        <p:blipFill>
          <a:blip r:embed="rId6"/>
          <a:stretch/>
        </p:blipFill>
        <p:spPr>
          <a:xfrm>
            <a:off x="6072120" y="2357280"/>
            <a:ext cx="2786040" cy="18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"/>
          <p:cNvSpPr/>
          <p:nvPr/>
        </p:nvSpPr>
        <p:spPr>
          <a:xfrm>
            <a:off x="0" y="12600"/>
            <a:ext cx="9001080" cy="334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точника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иц могут служить радиоактивные препараты, космические лучи, ядерные реакторы и ускорители заряженных час­тиц. Полученный от того или иного источника пучок частиц направ­ляют на определенный блок вещества, называемы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шенью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­зультате взаимодействия налетающих частиц с ядрами мишени возникают новые частицы. Для того чтобы их зарегистрировать, при­меняют специальные устройства, называем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текторами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5" descr="счётчик гейгера.jpg"/>
          <p:cNvPicPr/>
          <p:nvPr/>
        </p:nvPicPr>
        <p:blipFill>
          <a:blip r:embed="rId1"/>
          <a:stretch/>
        </p:blipFill>
        <p:spPr>
          <a:xfrm>
            <a:off x="500040" y="4838760"/>
            <a:ext cx="2143080" cy="149688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7" descr="глезер и его пузырьковая камера.jpg"/>
          <p:cNvPicPr/>
          <p:nvPr/>
        </p:nvPicPr>
        <p:blipFill>
          <a:blip r:embed="rId2"/>
          <a:stretch/>
        </p:blipFill>
        <p:spPr>
          <a:xfrm>
            <a:off x="7500960" y="4929120"/>
            <a:ext cx="1308240" cy="171468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8" descr="камера вильсона1.jpg"/>
          <p:cNvPicPr/>
          <p:nvPr/>
        </p:nvPicPr>
        <p:blipFill>
          <a:blip r:embed="rId3"/>
          <a:stretch/>
        </p:blipFill>
        <p:spPr>
          <a:xfrm>
            <a:off x="4357800" y="4879800"/>
            <a:ext cx="1420560" cy="17496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9" descr="водородная пузырьковая камера.jpg"/>
          <p:cNvPicPr/>
          <p:nvPr/>
        </p:nvPicPr>
        <p:blipFill>
          <a:blip r:embed="rId4"/>
          <a:stretch/>
        </p:blipFill>
        <p:spPr>
          <a:xfrm>
            <a:off x="4554360" y="3409920"/>
            <a:ext cx="35280" cy="38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1" descr="камера вильсона.jpg"/>
          <p:cNvPicPr/>
          <p:nvPr/>
        </p:nvPicPr>
        <p:blipFill>
          <a:blip r:embed="rId5"/>
          <a:stretch/>
        </p:blipFill>
        <p:spPr>
          <a:xfrm>
            <a:off x="6000840" y="4929120"/>
            <a:ext cx="1346040" cy="165096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2" descr="полупроводниковый ьрековый детектор.jpg"/>
          <p:cNvPicPr/>
          <p:nvPr/>
        </p:nvPicPr>
        <p:blipFill>
          <a:blip r:embed="rId6"/>
          <a:stretch/>
        </p:blipFill>
        <p:spPr>
          <a:xfrm>
            <a:off x="3429000" y="5000760"/>
            <a:ext cx="2786040" cy="148896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0" descr="водородная пузырьковая камера.jpg"/>
          <p:cNvPicPr/>
          <p:nvPr/>
        </p:nvPicPr>
        <p:blipFill>
          <a:blip r:embed="rId7"/>
          <a:stretch/>
        </p:blipFill>
        <p:spPr>
          <a:xfrm>
            <a:off x="5857920" y="4929120"/>
            <a:ext cx="1446120" cy="1590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C:\Users\User1\Pictures\радиоактивность картинки\карманный дозиметр.jpg"/>
          <p:cNvPicPr/>
          <p:nvPr/>
        </p:nvPicPr>
        <p:blipFill>
          <a:blip r:embed="rId8"/>
          <a:stretch/>
        </p:blipFill>
        <p:spPr>
          <a:xfrm>
            <a:off x="428760" y="4929120"/>
            <a:ext cx="26082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Блок-схема: знак завершения 1"/>
          <p:cNvSpPr/>
          <p:nvPr/>
        </p:nvSpPr>
        <p:spPr>
          <a:xfrm>
            <a:off x="771120" y="214200"/>
            <a:ext cx="7767000" cy="73728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два основных класса детектор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с двумя вырезанными противолежащими углами 2"/>
          <p:cNvSpPr/>
          <p:nvPr/>
        </p:nvSpPr>
        <p:spPr>
          <a:xfrm>
            <a:off x="0" y="1643040"/>
            <a:ext cx="4357800" cy="318492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четчика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хождение частицы вызывает появление электрического импульса. Это позволяет вести счет частиц, а также измерять некоторые их характери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с двумя вырезанными противолежащими углами 3"/>
          <p:cNvSpPr/>
          <p:nvPr/>
        </p:nvSpPr>
        <p:spPr>
          <a:xfrm>
            <a:off x="4572000" y="1643040"/>
            <a:ext cx="4572000" cy="30121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ековые детектор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ляют визуально наблюдать или фиксировать фотографическими и электрон­ными метод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е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иц — следы, оставляемые ими в рабочем веществе дет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трелка вниз 4"/>
          <p:cNvSpPr/>
          <p:nvPr/>
        </p:nvSpPr>
        <p:spPr>
          <a:xfrm rot="2880000">
            <a:off x="3354840" y="794520"/>
            <a:ext cx="214200" cy="85716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Стрелка вниз 5"/>
          <p:cNvSpPr/>
          <p:nvPr/>
        </p:nvSpPr>
        <p:spPr>
          <a:xfrm rot="19020000">
            <a:off x="5629320" y="810720"/>
            <a:ext cx="183960" cy="806760"/>
          </a:xfrm>
          <a:prstGeom prst="downArrow">
            <a:avLst>
              <a:gd name="adj1" fmla="val 50000"/>
              <a:gd name="adj2" fmla="val 500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оугольник 1"/>
          <p:cNvSpPr/>
          <p:nvPr/>
        </p:nvSpPr>
        <p:spPr>
          <a:xfrm>
            <a:off x="357120" y="2286000"/>
            <a:ext cx="857268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рассчитать изменение энергии (т.е. найти энергетический выход):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 =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2400" spc="-1" strike="noStrike" baseline="-10000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931 Мэ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е.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Блок-схема: знак завершения 2"/>
          <p:cNvSpPr/>
          <p:nvPr/>
        </p:nvSpPr>
        <p:spPr>
          <a:xfrm>
            <a:off x="285840" y="0"/>
            <a:ext cx="8643960" cy="10652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того чтобы провести энергетический расчёт ядерных реакций на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3"/>
          <p:cNvSpPr/>
          <p:nvPr/>
        </p:nvSpPr>
        <p:spPr>
          <a:xfrm>
            <a:off x="357120" y="1000080"/>
            <a:ext cx="842976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определить массу ядер и частиц до реакц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4"/>
          <p:cNvSpPr/>
          <p:nvPr/>
        </p:nvSpPr>
        <p:spPr>
          <a:xfrm>
            <a:off x="357120" y="1428840"/>
            <a:ext cx="7753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ить массу ядер и частиц после реакц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5"/>
          <p:cNvSpPr/>
          <p:nvPr/>
        </p:nvSpPr>
        <p:spPr>
          <a:xfrm>
            <a:off x="357120" y="1928880"/>
            <a:ext cx="631656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найти изменение массы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 = m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C:\Documents and Settings\1\Мои документы\Мои рисунки\Картинки\0_2008d_b11334a5_L.gif"/>
          <p:cNvPicPr/>
          <p:nvPr/>
        </p:nvPicPr>
        <p:blipFill>
          <a:blip r:embed="rId1"/>
          <a:stretch/>
        </p:blipFill>
        <p:spPr>
          <a:xfrm>
            <a:off x="1285920" y="3286080"/>
            <a:ext cx="628632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5:05:50Z</dcterms:created>
  <dc:creator>User1</dc:creator>
  <dc:description/>
  <dc:language>en-US</dc:language>
  <cp:lastModifiedBy>Михаил</cp:lastModifiedBy>
  <dcterms:modified xsi:type="dcterms:W3CDTF">2010-05-19T13:32:49Z</dcterms:modified>
  <cp:revision>44</cp:revision>
  <dc:subject/>
  <dc:title>Ядерные реакции</dc:title>
</cp:coreProperties>
</file>